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5E5B-3AAB-42AA-A2C6-9FDB499562B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C1C2-2CC1-4A90-B18B-0ECA16535C3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8D7C-F8BA-4338-8CD3-2C93DC9D59C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5F9C-4B46-496D-91D6-D7879D391BB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8C2E-00A5-4FB5-BE32-70DDB6BCFEA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FA6F-313A-4473-860D-D7DB58C45C2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3D25-A54A-47F6-8A45-537EFFCF6DF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BBF3-9379-41F5-9FBF-F21C96FA85F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7DFB-EFB9-41BB-B5F9-B64ACD50B43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0008-79C9-4624-8540-EC85D4B5B24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D86E-2079-4352-A192-D5296476AE7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D14C-57C1-4399-816A-4AA5379269B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A9AD-F8C1-4D7E-8E17-21F914628E2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858D-20A2-4E55-8CE9-8548D469705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1D63-6C45-40C3-8A16-783AA3AB6D6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011B-D9CD-4FC5-B6B8-89DD4761F7B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3A26-DA1F-45A9-B994-B1D0A299A6B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AE82-7835-42B4-B20B-43A6363EDA2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4DAF-285B-4E77-A7F1-AB8FA97985C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B6EC-DEAB-43E1-9E1B-057D6A1847B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B0A6-63A9-415F-BE84-63654F14E8F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2337-1DD8-426E-999B-E6046AE5FB0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A858-465F-4FEC-9855-DBF5635B01B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F097-D4F5-4F7E-B515-B2FCA452759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49DD-A183-4FDB-8D12-6B644890AA2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0598-7032-40DD-BECC-D4BA0EDDA54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1671-F1AF-4459-81B2-0539951A84C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47FE-18BD-40A8-AA0A-71326BB5FAD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E76D-2C62-4694-A4A3-D7E9ABBCDF4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9E39-5B5F-4EAE-8A5E-EC6E5E7D448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007A-4395-439E-9085-1782A12F91B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4F8C-633F-4C85-B44D-A29AF41D73C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CE29-64F7-4EE1-8FF7-CC51C67B82E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E329-75C0-433F-8F94-6C35822C940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3FD-1043-4091-A6AC-F1008CE7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C7EB-8CD3-42FE-98F6-33916A73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C8D-5893-4FE1-8777-20B99042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604-119A-4BA6-B8EC-85325BE8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6BB0-2AF5-4B50-B287-6D510218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2213-0280-420D-AA27-1D0758BA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4195-8C2B-4F88-9C85-64EC3C82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8C9E-216A-4F8B-A9C4-B18821A9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0C0A-8680-4E1E-A241-F47664AC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3833-8E43-4DD0-A4B7-F7FFDBF7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BCC4-D44E-4D38-8762-00B750EB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0A8-3842-4A7A-A07D-0E08D0CB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D8B7-7400-417C-8B74-57B7DFB2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4588-C903-4069-B1EE-A4720EDA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F900-DE82-45D1-91EA-FA764155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2CB1-1F4C-4885-98AC-A38E5669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5A33-7C13-4F39-8F91-67CA3CBA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3055-F910-4958-9FAC-06501297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56B-A353-4448-B815-115B5E35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4C5-8262-451C-A9FA-6D717152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F72-9273-41C4-A675-F91970C3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AEB9-F9EE-40AD-A5AD-91BE0F70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766-1774-4CEC-B68C-ABC68928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189-4189-41DE-9BD2-AC967F7C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60280" y="304920"/>
            <a:ext cx="8250120" cy="1106280"/>
            <a:chOff x="1160280" y="304920"/>
            <a:chExt cx="8250120" cy="1106280"/>
          </a:xfrm>
        </p:grpSpPr>
        <p:sp>
          <p:nvSpPr>
            <p:cNvPr id="1" name=""/>
            <p:cNvSpPr/>
            <p:nvPr/>
          </p:nvSpPr>
          <p:spPr>
            <a:xfrm flipH="1">
              <a:off x="5274360" y="304920"/>
              <a:ext cx="11966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215200" y="304920"/>
              <a:ext cx="11952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159920" y="306360"/>
              <a:ext cx="119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85116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55528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3CDD-AB52-4338-8D6A-CC6D380DBF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6760" y="1600200"/>
            <a:ext cx="7407000" cy="3200400"/>
            <a:chOff x="1796760" y="1600200"/>
            <a:chExt cx="7407000" cy="3200400"/>
          </a:xfrm>
        </p:grpSpPr>
        <p:sp>
          <p:nvSpPr>
            <p:cNvPr id="48" name=""/>
            <p:cNvSpPr/>
            <p:nvPr/>
          </p:nvSpPr>
          <p:spPr>
            <a:xfrm flipH="1">
              <a:off x="7552800" y="160020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613120" y="160020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673080" y="1600200"/>
              <a:ext cx="165096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673080" y="327672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96400" y="327672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552800" y="3276720"/>
              <a:ext cx="16506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550A-D1A8-4BF4-91CB-206A72CCCD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85560" y="3933720"/>
            <a:ext cx="7878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ule Nr. 4 Business plan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inko Zupanči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ctober 24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73360"/>
            <a:ext cx="103356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2640" y="260280"/>
            <a:ext cx="7723080" cy="5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60640" y="1897200"/>
            <a:ext cx="1249560" cy="85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35720" y="83592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225360"/>
            <a:ext cx="9906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26800" y="1142640"/>
            <a:ext cx="74977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A. PROIZVODI / STORIT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s proizvoda / storit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rebe, ki jih zadovolj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ebnost / edinstve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atne storit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to v pano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zvojna faza proizvoda / storit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java s konkurenčnimi izdel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i pravne zaščit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1000" y="225360"/>
            <a:ext cx="9555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4991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B. PODJET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um ustanovitve, pravnoorganizacijski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anovitelji / lastniki, lastniški dele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javnost podjetja (glavna, dopolnil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i cilji za 3-5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4995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C. PANOGA / DEJAV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anji obseg pan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vni subjekti v pan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jučni dejavniki za poslovni usp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vedi o rasti, tržnem potencialu in tržni strukturi pan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videni trendi v tehnologiji, modi, zakonodaji, zaščiti oko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3280" y="297000"/>
            <a:ext cx="845352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7320" y="1142640"/>
            <a:ext cx="957564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OPIS / ANALIZA CILJNIH KUP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do so kupci in kdo uporabniki izdelkov/stori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fska lokacija kup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tvene lastnosti izdelka z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očitev o nakupu - dejavn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 je kdo že naročil izde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1080" y="297000"/>
            <a:ext cx="865980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6680" y="990720"/>
            <a:ext cx="973944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CILJNI TRG / SEGMENT / VRZ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g trga (Slovenija, drug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našanje trga v pretek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videna prihodnja rast t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bne značilnosti trga, ovire za v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vedi sprememb v prih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žni delež podjetja (napo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ni tržni seg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črti o izvoznih trg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IRANJE  TRG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26800" y="1066320"/>
            <a:ext cx="74991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e mož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 značilnostih kupc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 lastnostih proizvodo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grafske značilnosti kupcev (potrošnikov ali organizaci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fske značilnosti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ljenjski ali poslovni stil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ihografske značilnosti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4160" y="380880"/>
            <a:ext cx="92455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AZISKAVA TRGA: Primer: strehe iz alumin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1676520"/>
            <a:ext cx="586116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tencialni uporabn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0240" y="2514600"/>
            <a:ext cx="4210200" cy="19810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Vrsta uporabnik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stanovanjske h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poslovne zgra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druge zgra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35680" y="2514600"/>
            <a:ext cx="4375080" cy="19810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Vrsta grad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- novograd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- prenova obstoječ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63880" y="4648320"/>
            <a:ext cx="5860800" cy="15238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Analiza kupcev: kdo se odloč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do svetuje, kdo vgrajuj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ako se jim predstav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90432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8760" y="990720"/>
            <a:ext cx="96570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KONKU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5 najpomembnejših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nosti in slabosti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obnosti in razlike s konku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vne tržne strategije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jetnost / možnost vstopa novih podjet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č tuje konku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640" y="225360"/>
            <a:ext cx="8034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ONKURENCA:  PORTERJEV 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08120" y="1295280"/>
            <a:ext cx="83376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kmovanje med podjetji v pan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žnost vstopa novih konkuren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žnost razvoja alternativnih proizvodov (substituti) ali tehnolog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gajalska moč dobavitelj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gajalska moč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5520" y="333000"/>
            <a:ext cx="9516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KTIVNOSTI  KONKURENT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4160" y="1066320"/>
            <a:ext cx="924552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ikost, rast in donosnost poslovanja (ekonomska mo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i in predpostavke ravnanja (poslovna naravna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kle / sedanje trž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ven organiziranosti in kultura podjet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stroškov in ovire za iz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nosti in slab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426672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sebina: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slovno načrtovanje (izdelava poslovnega načrta)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avne oblike nepridobitnih podjemov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96640"/>
            <a:ext cx="9739440" cy="4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32040" y="2819520"/>
          <a:ext cx="7887960" cy="294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2819520"/>
                    <a:ext cx="7887960" cy="294624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891000" y="1063800"/>
            <a:ext cx="38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E. NAPOVED PRO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29840" y="1905120"/>
            <a:ext cx="49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Napoved prodaje za 3 – 5 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80" y="367920"/>
            <a:ext cx="98218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II. RAZVOJ PROIZVODA IN TEHNOLOGI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99316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a stopnja proizvo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i nove generacije, dodatne oblike upora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 kupci z izboljšavo / diferenciacijo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 vezanih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e izboljšave tehnologije in postop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ščita posebnosti pri proizvodu /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990612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-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94107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. POSLOVNA LO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bira makrolokacije (regija, kra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bira mikrolokacije (prostor, prednosti / slab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stništvo ali najem zemljiš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. PROIZVODNE OPER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ločitev o nakupu / kooperaciji ali proizvodn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oteka proizvodnega proc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90432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–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5480" y="914400"/>
            <a:ext cx="90806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NAČRT NABAVE SUROVIN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ljučne sestavine nab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zbor dobaviteljev - alternativni dobavitel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acija nabave ter ravnanje z zaloga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hodna kontrola kvalitete surovin in delo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POSLOVNI PROST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rebe po prostorih (sedaj, v 3-5 leti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čin pridobitve, potrebne naložbe v preno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čni vidik gospodarjenja s prost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96640"/>
            <a:ext cx="965844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-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5240" y="914400"/>
            <a:ext cx="9740880" cy="578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NAČRT STROJEV IN OPREM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isek potrebnih strojev in opre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rt nabave strojev in opreme (nači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ančni vidiki gospodarjenja s stroji in oprem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 NAČRT ZAPOSLOVANJA OSEBJ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rt zaposlovanja za 3-5 l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in zaposlitve: redno / pogodbeno, polno / krajš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grajevanje osebja, napredovanje, usposablj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KONTROLA KVALITETE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.   UPOŠTEVANJE PREDPI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152280"/>
            <a:ext cx="9163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. STRATEGIJA TRŽE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118120" cy="556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A. OBLIKOVANJE CEN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oblikovanje cen, pribite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olitika popusto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reakcije konkurento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B. PRODAJNE PO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istribucijski kanal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rodajno oseb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00200" y="1295280"/>
            <a:ext cx="4622760" cy="556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C. OGLAŠEVANJE IN PROMOCI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načrt izvajanja promoc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roračun za oglaševan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D. POPRODAJNE STORIT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garanc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servisno omrež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ruge storitve za kup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6680" y="0"/>
            <a:ext cx="9739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. UPRAVLJANJE, ORGANIZACIJA, LASTNIŠT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0760" y="990360"/>
            <a:ext cx="91123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tavitev podjetnika (skupine) in razporeditev vlog (funkcij): odgovornosti in pristoj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danji dosežki (reference) podjet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grajevanje manage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kro) organizacija podjetja (in razvo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zorni s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nanji strokovnja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ka zaposlovanja in razvoja oseb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niška struktura 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80" y="404640"/>
            <a:ext cx="990468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I. FINANČNE PROJEKCIJE -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1523880"/>
            <a:ext cx="932832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OVZETEK FINANČNIH REZULTATOV  ZA ZADNJA 3 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zetek finančnih rezulta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in ocena poslovanja in s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OTVORITVENA BILANCA PODJET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a začetna sred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čin financiranja začetnih sreds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0" y="333360"/>
            <a:ext cx="99046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I. FINANČNE PROJEKCIJE -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47680" y="1294920"/>
            <a:ext cx="94932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ČNE PROJEKCIJE ZA 3-5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ji poslovanja (predpostav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izkaza uspe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denar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bilance st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in kontrola stroš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na točke prel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temeljnih finančnih količ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občutljivosti finančnih projekc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56760"/>
            <a:ext cx="8915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IZA  KAZALNIKO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7680" y="1143000"/>
            <a:ext cx="3219480" cy="99072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LIKVI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49600" y="1143000"/>
            <a:ext cx="6108840" cy="99072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Obseg razpoložljivih gibljivih 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ratkoročnih sreds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7680" y="2209680"/>
            <a:ext cx="3219480" cy="99072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DONOS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49600" y="2209680"/>
            <a:ext cx="6108840" cy="99072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Različna merila dobička (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apital, na lastna sredst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680" y="3276720"/>
            <a:ext cx="3219480" cy="106668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ZADOLŽ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49600" y="3276720"/>
            <a:ext cx="6108840" cy="106668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Načini financiranja pos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7680" y="4419720"/>
            <a:ext cx="3219480" cy="106668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UČINK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49600" y="4419720"/>
            <a:ext cx="6108840" cy="106668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Merila proizvodne učink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ebina  poslovnega nač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51000" y="189000"/>
            <a:ext cx="84200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4680" y="1592280"/>
            <a:ext cx="842004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tovimo, katera so mogoča tveganja in problemi pri p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nimo verjetnost njihovega uresni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rednotimo verjetne finančne učinke oz. posle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imo načrt ravnanja v primeru nastalega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000000"/>
                </a:solidFill>
                <a:latin typeface="Arial"/>
              </a:rPr>
              <a:t>VIII. ANALIZA IN VREDNOTENJE KRITIČNIH TVEGANJ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X. TERMINSKI NAČ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004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SEBINA TERMINSKEGA NAČ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rebne ključne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alističen rok izve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osilec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rebna sred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lternativna mo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LIKA TERMINSKEGA NAČ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bela ali Ganttov grafi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4880" y="228600"/>
            <a:ext cx="95756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ILOGE K POSLOVNEMU NAČRT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5160" y="1197000"/>
            <a:ext cx="4705560" cy="529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rosto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fotografije poslovnih prosto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etalji tržnih anal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oteka proiz-v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iljna prodaja/dobi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hnični opis proizvo-da/storitve/tehnolo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eniki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like / skic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30280" y="1305000"/>
            <a:ext cx="4705560" cy="53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čne rekl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ci ogla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ma organ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ljenjepis/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sma potencialnih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ije pogo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čna poročila za prejšnja 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ski opreme ali dobavitelje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vni okviri za nepridobitne podj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profitna družba z omejeno odgovornostj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dobiček se reinvestira v razvo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Ostala določila enaka kot v primeru izvajanja profitno naravnane dejav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adrug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spešuje gospodarsko korist član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Najmanj trije ustanovitelj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Vsak član ima en glas pri upravljan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31560" y="1181160"/>
            <a:ext cx="9240840" cy="53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vo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ravljanje družbenih dejavnosti, če cilj ni pridobivanje dobi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opravljanje javnih služb se ustanovijo javni zavodi; pridobitev konc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tanova ali fundacij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gotavlja splošno koristne cil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ošno poslanstvo: dobrodelnost, lahko pa opravlja tudi gospodarske deja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glasje  k ustanovitvi daje ministrstvo  v katerega pristojnost spada urejanje področja, ki ga opravl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no podjet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tanovljena zaradi integracije ranljivih skupin prebivalstva ali za zagotavljanje storitev za ranljive skup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bližek le invalidska podjetja z drugačno obravnavo pri davkih, delovnih razmerjih in socialni zakonodaj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štv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stovoljno, samostojno in nepridobitno združenje fizičnih oseb zaradi skupnih interesov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žnost posebnega statusa društva, ki deluje v javnem interesu (npr. Planinska zveza Slovenij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ebno de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sebno dopolnilno delo uporabno za zagon neke dejavnosti ali dodatnega zaslužk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meri: pomoč v gospodinjstvu, izdelki domače in umetnostne obrti, socialne storit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mejen je obseg letnih prihodkov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76680" y="1218960"/>
            <a:ext cx="9906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SEBINA POSLOVNEGA NAČRTA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38080" y="1260360"/>
            <a:ext cx="8420040" cy="4335480"/>
            <a:chOff x="838080" y="1260360"/>
            <a:chExt cx="8420040" cy="4335480"/>
          </a:xfrm>
        </p:grpSpPr>
        <p:sp>
          <p:nvSpPr>
            <p:cNvPr id="112" name=""/>
            <p:cNvSpPr/>
            <p:nvPr/>
          </p:nvSpPr>
          <p:spPr>
            <a:xfrm>
              <a:off x="838080" y="1387440"/>
              <a:ext cx="2460960" cy="40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.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NALIZA POS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 – Opis proizvoda a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orit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 – Trg in ciljni kup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 – Konkuren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 – Strategija in nač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ržen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 – Lokacija, prostor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prema, logisti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 – Menedžment 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rganiza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G – Zaposleno oseb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 – Terminski nač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76640" y="2281320"/>
              <a:ext cx="2202480" cy="2039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13440" y="2281320"/>
              <a:ext cx="0" cy="101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24640" y="1898640"/>
              <a:ext cx="25776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5160" y="2281320"/>
              <a:ext cx="38880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170160" y="1898640"/>
              <a:ext cx="155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169800" y="2281320"/>
              <a:ext cx="10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371560" y="1898640"/>
              <a:ext cx="13032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1880" y="1898640"/>
              <a:ext cx="18126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85600" y="1387440"/>
              <a:ext cx="2072520" cy="42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II.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FINANČ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ROJEKCI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 – Predračun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a uspe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 – Predračun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a stan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 – Projek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e denarni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ko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 – Prag renta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nosti, finanč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olični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1260360"/>
              <a:ext cx="8420040" cy="433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3440" y="3300480"/>
              <a:ext cx="905760" cy="63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113440" y="2407680"/>
              <a:ext cx="5173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113440" y="2663280"/>
              <a:ext cx="90576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113440" y="3046320"/>
              <a:ext cx="116568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724640" y="2407680"/>
              <a:ext cx="38880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335840" y="2663280"/>
              <a:ext cx="77760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076640" y="3046320"/>
              <a:ext cx="103680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204800" y="3300480"/>
              <a:ext cx="90828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593600" y="3300480"/>
              <a:ext cx="51948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13440" y="3300480"/>
              <a:ext cx="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3440" y="3300480"/>
              <a:ext cx="51732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7400" y="2790720"/>
              <a:ext cx="38844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99040" y="3429000"/>
              <a:ext cx="10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816720" y="3809880"/>
              <a:ext cx="77724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53880" y="3938040"/>
              <a:ext cx="12852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5371200" y="4065480"/>
              <a:ext cx="25956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630760" y="3938400"/>
              <a:ext cx="777240" cy="14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38760" y="2790720"/>
              <a:ext cx="9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299040" y="40654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70160" y="4575240"/>
              <a:ext cx="16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299040" y="4957560"/>
              <a:ext cx="233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99040" y="5340240"/>
              <a:ext cx="31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760360" y="2408040"/>
              <a:ext cx="64800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90680" y="2917800"/>
              <a:ext cx="5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019560" y="35560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37600" y="3556080"/>
              <a:ext cx="906120" cy="17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08360" y="2917800"/>
              <a:ext cx="103536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8360" y="2408040"/>
              <a:ext cx="90612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225360"/>
            <a:ext cx="97538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LIKOVNA PRAVILA ZA POSLOVNI NAČ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26800" y="914040"/>
            <a:ext cx="749772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čna, kakovostna in trpežna izde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prava s PC-jem zaradi dopolnje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zikovna in slovnična neoporečnost - odnos do posla in partnerje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p slovenski jezi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ravek tipkarskih napa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imerna velikost in oblika č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ez pretiranega žargon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umen obseg številk (tab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Vsebina poslovnega načrta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8120" y="990720"/>
            <a:ext cx="409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LOVNA S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eb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Povzetek poslovnega nač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I. Panoga, podjetje in njegovi proizvodi/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Panoga/ dejav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odjet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roizvodi/ 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II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Raziskava in analiza t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Tržno področ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naliza ciljnih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Opis t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Konkur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Napoved pro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9200" y="1371600"/>
            <a:ext cx="409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IV.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Razvoj in proizvod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azvoj proizvoda/storitve in tehnolo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Poslovna lok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Proizvodne oper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Načrt nabave surovin, delov in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Potrebni poslovni pros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Načrtovanje strojev in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Načrtovanje zaposlo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75200">
            <a:off x="4800240" y="502920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Lucida Console"/>
              </a:rPr>
              <a:t>Pogoj: preverljiva poslov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Vsebina poslovnega načrta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08120" y="1143000"/>
            <a:ext cx="409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Načrt prodaje /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trž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Opredelitev poslanstva podjetja z vidika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blikovanje c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rodajna strateg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Reklama, propaganda in drugi elementi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Podpora prodaji in drugi elementi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.Management, organizacija in lastniš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05520" y="1143000"/>
            <a:ext cx="409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I.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Finančne proje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Ekonomika po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tvoritvena bilanca s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Finančne projekcije za razdobje naslednjih 3-5 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Načrt ukrepanja v izrednih okoliščin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I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Ocena tveganj in proble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IX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.Terminski nač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tki k poslovnemu načr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75200">
            <a:off x="4038120" y="4572000"/>
            <a:ext cx="28749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Lucida Console"/>
              </a:rPr>
              <a:t>Pogoj: preverljiva poslov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3680" y="368280"/>
            <a:ext cx="94932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ASLOVNA STRAN: informac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7680" y="1447920"/>
            <a:ext cx="941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1240" y="1052640"/>
            <a:ext cx="8089920" cy="543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Grafično znak (logo) 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66"/>
                </a:solidFill>
                <a:latin typeface="Arial"/>
              </a:rPr>
              <a:t>POSLOVNI NAČ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66"/>
                </a:solidFill>
                <a:latin typeface="Arial"/>
              </a:rPr>
              <a:t>ZA (podjetje / proizvod / storit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Naslov podjetja (telefon, faks, e-m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Odgovorna (kontaktna) os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(klavzula o poslovni skriv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Kraj in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9448920" cy="5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vzetek  poslovnega  načrta  -  sploš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8120" y="990360"/>
            <a:ext cx="8337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g 1-2 st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lačen opis posla (poseb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lačnost izdelka za kup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rnat opis zmožnosti podjet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meljitev prodaj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zetek finančnih projekc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udba za sovlagate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Vinko Zupancic</cp:lastModifiedBy>
  <dcterms:modified xsi:type="dcterms:W3CDTF">2007-10-22T20:35:18Z</dcterms:modified>
  <cp:revision>7</cp:revision>
  <dc:subject/>
  <dc:title>Diapozitiv 1</dc:title>
</cp:coreProperties>
</file>